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26763"/>
        <c:axId val="60604042"/>
      </c:barChart>
      <c:catAx>
        <c:axId val="54526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04042"/>
        <c:crosses val="autoZero"/>
        <c:auto val="1"/>
        <c:lblAlgn val="ctr"/>
        <c:lblOffset val="100"/>
        <c:noMultiLvlLbl val="0"/>
      </c:catAx>
      <c:valAx>
        <c:axId val="60604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6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854-8984-4F98-80C9-DA535940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AE2-7F16-47AA-8DF4-8E810DF1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0AC-A412-4870-A9E7-5AADC132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9CF-36B5-4748-8B96-358D74C8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2E5-A938-4239-A4FB-6A7E69D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E6F-0B82-440C-B9FF-FF486EC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28E-3FEF-45D1-95F1-659857E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100-490F-4CCF-89AA-9580F9E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5CF-5E0E-4658-B58D-85EF2F2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86A-FE4A-4B92-93F2-A379F52B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D53-AD08-4330-A491-29CE92B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2DB-2648-4069-B405-EECC1E9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D1C2-D7C1-4CCA-B0CB-941E8D8AFA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